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2.wmf" ContentType="image/x-wmf"/>
  <Override PartName="/ppt/media/clap.wav" ContentType="audio/x-wav"/>
  <Override PartName="/ppt/media/image19.wmf" ContentType="image/x-wmf"/>
  <Override PartName="/ppt/media/projctor.wav" ContentType="audio/x-wav"/>
  <Override PartName="/ppt/media/image21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cashreg.wav" ContentType="audio/x-wav"/>
  <Override PartName="/ppt/media/image9.png" ContentType="image/png"/>
  <Override PartName="/ppt/media/image14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carbrake.wav" ContentType="audio/x-wav"/>
  <Override PartName="/ppt/media/image8.png" ContentType="image/png"/>
  <Override PartName="/ppt/media/image16.wmf" ContentType="image/x-wmf"/>
  <Override PartName="/ppt/media/image17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10.png" ContentType="image/png"/>
  <Override PartName="/ppt/media/image11.png" ContentType="image/png"/>
  <Override PartName="/ppt/media/glass.wav" ContentType="audio/x-wav"/>
  <Override PartName="/ppt/media/image6.wmf" ContentType="image/x-wmf"/>
  <Override PartName="/ppt/media/image5.png" ContentType="image/png"/>
  <Override PartName="/ppt/media/image13.wmf" ContentType="image/x-wmf"/>
  <Override PartName="/ppt/media/whoosh.wav" ContentType="audio/x-wav"/>
  <Override PartName="/ppt/media/image23.wmf" ContentType="image/x-wmf"/>
  <Override PartName="/ppt/media/image34.png" ContentType="image/png"/>
  <Override PartName="/ppt/media/image4.png" ContentType="image/png"/>
  <Override PartName="/ppt/media/laser.wav" ContentType="audio/x-wav"/>
  <Override PartName="/ppt/media/image35.wmf" ContentType="image/x-wmf"/>
  <Override PartName="/ppt/media/image3.wmf" ContentType="image/x-wmf"/>
  <Override PartName="/ppt/media/image33.wmf" ContentType="image/x-wmf"/>
  <Override PartName="/ppt/media/image2.png" ContentType="image/png"/>
  <Override PartName="/ppt/media/image1.png" ContentType="image/png"/>
  <Override PartName="/ppt/media/image29.wmf" ContentType="image/x-wmf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E4C-F842-474E-971F-DB3FEEF5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884-7C5F-4C4E-8BDC-21C94B39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E18-6271-42D2-914E-72F3003F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32A-47D8-4815-9E69-ECAF81EF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A00-AB9A-4660-8C54-8373EF0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42F-7089-46F5-977A-77852FD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440-FE78-46C5-B7F9-246A2AF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80D-3F26-48BB-BD9D-F9A909A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110-5ACB-4990-84AD-848FE8C3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8C2-BE7A-4DB8-88D5-C7622C4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370-7123-46D9-8F82-F994294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E74-531C-48D0-B591-6067114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5FC-E6CC-4D01-9C78-0C0227C22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europe/italy/flag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enchantedlearning.com/usa/flags/" TargetMode="External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hyperlink" Target="http://www.pastasgallo.es/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www.pastasgallo.es/" TargetMode="External"/><Relationship Id="rId8" Type="http://schemas.openxmlformats.org/officeDocument/2006/relationships/image" Target="../media/image10.png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hyperlink" Target="http://www.dhscientific.com/eqcat4.htm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rthritisinsight.com/medical/meds/hyalgan.html" TargetMode="External"/><Relationship Id="rId2" Type="http://schemas.openxmlformats.org/officeDocument/2006/relationships/hyperlink" Target="http://arthritisinsight.com/medical/meds/hyalgan.html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hyperlink" Target="http://arthritisinsight.com/medical/meds/synvisc.html" TargetMode="External"/><Relationship Id="rId6" Type="http://schemas.openxmlformats.org/officeDocument/2006/relationships/hyperlink" Target="http://arthritisinsight.com/medical/meds/synvisc.html" TargetMode="External"/><Relationship Id="rId7" Type="http://schemas.openxmlformats.org/officeDocument/2006/relationships/hyperlink" Target="http://arthritisinsight.com/medical/meds/synvisc.html" TargetMode="External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audio" Target="../media/projctor.wav"/><Relationship Id="rId20" Type="http://schemas.openxmlformats.org/officeDocument/2006/relationships/audio" Target="../media/laser.wav"/><Relationship Id="rId21" Type="http://schemas.openxmlformats.org/officeDocument/2006/relationships/audio" Target="../media/clap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34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ovial f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i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in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ovial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id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(SF) 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s produced by the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ynov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F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lubricate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surface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of 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the articular cartil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bsor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 </a:t>
            </a:r>
            <a:r>
              <a:rPr b="1" lang="cs-CZ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76360" y="1905120"/>
          <a:ext cx="2790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05120"/>
                    <a:ext cx="2790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994280" y="1905120"/>
          <a:ext cx="266688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4280" y="1905120"/>
                    <a:ext cx="2666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2209680"/>
          <a:ext cx="8305920" cy="4200480"/>
        </p:xfrm>
        <a:graphic>
          <a:graphicData uri="http://schemas.openxmlformats.org/drawingml/2006/table">
            <a:tbl>
              <a:tblPr/>
              <a:tblGrid>
                <a:gridCol w="2666880"/>
                <a:gridCol w="2974680"/>
                <a:gridCol w="2664360"/>
              </a:tblGrid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Trade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HA molecular we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Manufactur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Hyalgan</a:t>
                      </a:r>
                      <a:r>
                        <a:rPr b="1" lang="cs-CZ" sz="2800" spc="-1" strike="noStrike" baseline="30000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®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500 000 – 750 000 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Fidia Farmaceutic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Synvisc</a:t>
                      </a:r>
                      <a:r>
                        <a:rPr b="1" lang="cs-CZ" sz="2800" spc="-1" strike="noStrike" baseline="30000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®</a:t>
                      </a:r>
                      <a:r>
                        <a:rPr b="1" lang="en-US" sz="20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G-F</a:t>
                      </a:r>
                      <a:r>
                        <a:rPr b="1" lang="en-US" sz="20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20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Contains HA </a:t>
                      </a:r>
                      <a:r>
                        <a:rPr b="1" i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Hylan</a:t>
                      </a:r>
                      <a:r>
                        <a:rPr b="1" lang="cs-CZ" sz="2800" spc="-1" strike="noStrike" baseline="30000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®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A-type hydro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Genzy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Biosurg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531160" y="685800"/>
            <a:ext cx="43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urren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3581280"/>
            <a:ext cx="457200" cy="311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usa 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952880"/>
            <a:ext cx="457200" cy="2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.. Ki-ki-ri-ki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746280" y="1981080"/>
            <a:ext cx="7867440" cy="4114800"/>
            <a:chOff x="746280" y="1981080"/>
            <a:chExt cx="7867440" cy="4114800"/>
          </a:xfrm>
        </p:grpSpPr>
        <p:pic>
          <p:nvPicPr>
            <p:cNvPr id="125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46280" y="1981080"/>
              <a:ext cx="36892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924440" y="1981080"/>
              <a:ext cx="368928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.. ki-ri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1547640" y="1981080"/>
            <a:ext cx="5597640" cy="1052640"/>
            <a:chOff x="1547640" y="1981080"/>
            <a:chExt cx="5597640" cy="1052640"/>
          </a:xfrm>
        </p:grpSpPr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1547640" y="1981080"/>
              <a:ext cx="144792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5697360" y="1981080"/>
              <a:ext cx="1447920" cy="105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560" y="1981080"/>
            <a:ext cx="365292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enzymatic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 ion-pair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mbrane ultra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 non-solvent precipitation and/or lyophiliza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29000" y="685800"/>
            <a:ext cx="23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yalgan</a:t>
            </a:r>
            <a:r>
              <a:rPr b="0" lang="en-US" sz="4400" spc="-1" strike="noStrike" u="sng" baseline="30000">
                <a:solidFill>
                  <a:srgbClr val="ccccff"/>
                </a:solidFill>
                <a:uFillTx/>
                <a:latin typeface="Times New Roman"/>
                <a:hlinkClick r:id="rId2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41008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Intermolecular interactio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1463760"/>
          <a:ext cx="5029200" cy="41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463760"/>
                    <a:ext cx="502920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28600" y="2590920"/>
          <a:ext cx="1068480" cy="15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106848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374920" y="541008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Intermolecular interactio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57400" y="1463760"/>
          <a:ext cx="5029200" cy="41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63760"/>
                    <a:ext cx="502920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8600" y="2590920"/>
          <a:ext cx="1068480" cy="15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106848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3029760" y="685800"/>
            <a:ext cx="6114240" cy="4193280"/>
            <a:chOff x="3029760" y="685800"/>
            <a:chExt cx="6114240" cy="4193280"/>
          </a:xfrm>
        </p:grpSpPr>
        <p:sp>
          <p:nvSpPr>
            <p:cNvPr id="158" name=""/>
            <p:cNvSpPr/>
            <p:nvPr/>
          </p:nvSpPr>
          <p:spPr>
            <a:xfrm>
              <a:off x="3029760" y="685800"/>
              <a:ext cx="296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Hylan</a:t>
              </a:r>
              <a:r>
                <a:rPr b="0" lang="en-US" sz="4400" spc="-1" strike="noStrike" u="sng" baseline="30000">
                  <a:solidFill>
                    <a:srgbClr val="ccccff"/>
                  </a:solidFill>
                  <a:uFillTx/>
                  <a:latin typeface="Times New Roman"/>
                  <a:hlinkClick r:id="rId6"/>
                </a:rPr>
                <a:t>®</a:t>
              </a:r>
              <a:r>
                <a:rPr b="0" lang="en-US" sz="4400" spc="-1" strike="noStrike" u="sng" baseline="30000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G - F 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51680" y="3505320"/>
              <a:ext cx="2092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</a:rPr>
                <a:t>plus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Hylan</a:t>
              </a:r>
              <a:r>
                <a:rPr b="1" lang="cs-CZ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®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A-type hydrog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st-Guest Associ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Novel Horizo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cosupplementation of OA J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... a brilliant</a:t>
            </a: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dea of Ladislav </a:t>
            </a: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Šol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33400" y="5010120"/>
          <a:ext cx="5716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5010120"/>
                    <a:ext cx="571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uronic Aci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0" y="2629080"/>
          <a:ext cx="914256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629080"/>
                    <a:ext cx="91425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28600" y="54100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30 – 60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00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iopolymer with M 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2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00 – 4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00  g/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uronic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6600" y="5410080"/>
            <a:ext cx="49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Host-guest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055960" y="1979640"/>
          <a:ext cx="5032080" cy="30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1979640"/>
                    <a:ext cx="503208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0040" y="2230560"/>
          <a:ext cx="1625760" cy="247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040" y="2230560"/>
                    <a:ext cx="162576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162920" y="2666880"/>
          <a:ext cx="1800000" cy="190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2666880"/>
                    <a:ext cx="180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477720" y="2590920"/>
            <a:ext cx="793800" cy="971280"/>
            <a:chOff x="477720" y="2590920"/>
            <a:chExt cx="793800" cy="971280"/>
          </a:xfrm>
        </p:grpSpPr>
        <p:graphicFrame>
          <p:nvGraphicFramePr>
            <p:cNvPr id="192" name=""/>
            <p:cNvGraphicFramePr/>
            <p:nvPr/>
          </p:nvGraphicFramePr>
          <p:xfrm>
            <a:off x="900000" y="3200400"/>
            <a:ext cx="371520" cy="36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00000" y="3200400"/>
                      <a:ext cx="371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477720" y="2590920"/>
            <a:ext cx="371520" cy="361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7720" y="2590920"/>
                      <a:ext cx="371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728800" y="2438280"/>
            <a:ext cx="3695760" cy="2057400"/>
            <a:chOff x="2728800" y="2438280"/>
            <a:chExt cx="3695760" cy="2057400"/>
          </a:xfrm>
        </p:grpSpPr>
        <p:graphicFrame>
          <p:nvGraphicFramePr>
            <p:cNvPr id="197" name=""/>
            <p:cNvGraphicFramePr/>
            <p:nvPr/>
          </p:nvGraphicFramePr>
          <p:xfrm>
            <a:off x="2728800" y="2438280"/>
            <a:ext cx="390600" cy="990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28800" y="2438280"/>
                      <a:ext cx="390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6033960" y="3505320"/>
            <a:ext cx="390600" cy="99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3960" y="3505320"/>
                      <a:ext cx="3906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Host -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Cyclodextr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42960" y="2716200"/>
          <a:ext cx="39844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716200"/>
                    <a:ext cx="39844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0880" y="5638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 =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6, 7,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Synovial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 low strain rat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F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haves as a viscous flu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 high strain rates,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aluronan (HA) macro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lecules become entangl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causes them to behave more like an elastic sol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odextr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42960" y="2716200"/>
          <a:ext cx="39844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716200"/>
                    <a:ext cx="39844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181480" y="2362320"/>
          <a:ext cx="3219480" cy="311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2362320"/>
                    <a:ext cx="32194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 =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7 ;  </a:t>
            </a:r>
            <a:r>
              <a:rPr b="1" i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- cyclodextr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447920" y="546120"/>
          <a:ext cx="6172200" cy="59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46120"/>
                    <a:ext cx="617220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odextr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876920" y="2014560"/>
          <a:ext cx="3828960" cy="38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014560"/>
                    <a:ext cx="3828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990720" y="2666880"/>
          <a:ext cx="2895480" cy="264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666880"/>
                    <a:ext cx="28954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80880" y="5638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Higher order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Guest -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Adamant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01640" y="2046240"/>
          <a:ext cx="377676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046240"/>
                    <a:ext cx="377676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amant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C - 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724280" y="2308320"/>
          <a:ext cx="38102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308320"/>
                    <a:ext cx="38102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01640" y="2046240"/>
          <a:ext cx="3776760" cy="398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640" y="2046240"/>
                    <a:ext cx="377676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amant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95308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724280" y="2308320"/>
          <a:ext cx="3810240" cy="33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308320"/>
                    <a:ext cx="38102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83760" y="563868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Higher orde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142640" y="1752120"/>
            <a:ext cx="6705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ST + GUEST ↔ HOST---GUES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HOST---GUES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 =  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HOST] × [GUES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457200" y="2209680"/>
          <a:ext cx="8305920" cy="4211640"/>
        </p:xfrm>
        <a:graphic>
          <a:graphicData uri="http://schemas.openxmlformats.org/drawingml/2006/table">
            <a:tbl>
              <a:tblPr/>
              <a:tblGrid>
                <a:gridCol w="1828800"/>
                <a:gridCol w="4114800"/>
                <a:gridCol w="236232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Host *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Guest/Competit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log 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Adamantyl residue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3.92 - 5.04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39040" y="6858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x stability constant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3809880"/>
          <a:ext cx="4572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848720" y="3809880"/>
          <a:ext cx="4572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2700360" y="38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6877080" y="3860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77440" y="1752120"/>
            <a:ext cx="7993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ST +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Competito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↔ HOST--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Competito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HOST--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Competito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 =     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HOST] × [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Competito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Competitor -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lurbiprof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3156120"/>
          <a:ext cx="3809880" cy="17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56120"/>
                    <a:ext cx="38098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ic types of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h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34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Osteoarthritis (OA)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heumatoid arthritis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rbiprof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3156120"/>
          <a:ext cx="3809880" cy="17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56120"/>
                    <a:ext cx="38098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793480" y="563868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3D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5410080" y="3276720"/>
            <a:ext cx="2895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457200" y="2209680"/>
          <a:ext cx="8305920" cy="4191120"/>
        </p:xfrm>
        <a:graphic>
          <a:graphicData uri="http://schemas.openxmlformats.org/drawingml/2006/table">
            <a:tbl>
              <a:tblPr/>
              <a:tblGrid>
                <a:gridCol w="1828800"/>
                <a:gridCol w="4114800"/>
                <a:gridCol w="236232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Host *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Guest/Competit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log 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Adamantyl residue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3.92 - 5.04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Flurbiprofen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3.29; 3.65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1139040" y="6858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x stability constant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00200" y="3809880"/>
          <a:ext cx="4572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600200" y="4876920"/>
          <a:ext cx="45720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76920"/>
                    <a:ext cx="4572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848720" y="3809880"/>
          <a:ext cx="45720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7848720" y="4876920"/>
          <a:ext cx="457200" cy="41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48720" y="4876920"/>
                    <a:ext cx="4572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514600" y="4876920"/>
          <a:ext cx="45720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876920"/>
                    <a:ext cx="457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7238880" y="4876920"/>
          <a:ext cx="45720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876920"/>
                    <a:ext cx="457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17"/>
          <a:stretch/>
        </p:blipFill>
        <p:spPr>
          <a:xfrm>
            <a:off x="6877080" y="38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8"/>
          <a:stretch/>
        </p:blipFill>
        <p:spPr>
          <a:xfrm>
            <a:off x="2700360" y="3860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Competitor -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Piroxi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04920" y="3048120"/>
          <a:ext cx="380988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380988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iroxi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920" y="3048120"/>
          <a:ext cx="380988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380988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640840" y="563868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3D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4876920" y="3276720"/>
            <a:ext cx="3809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2209680"/>
          <a:ext cx="8305920" cy="4191120"/>
        </p:xfrm>
        <a:graphic>
          <a:graphicData uri="http://schemas.openxmlformats.org/drawingml/2006/table">
            <a:tbl>
              <a:tblPr/>
              <a:tblGrid>
                <a:gridCol w="1828800"/>
                <a:gridCol w="4114800"/>
                <a:gridCol w="236232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Host *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Guest/Competit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log 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Adamantyl residue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3.92 - 5.04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Flurbiprofen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3.29; 3.65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β-C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Piroxicam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1.97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139040" y="6858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x stability constant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600200" y="3809880"/>
          <a:ext cx="4572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600200" y="5867280"/>
          <a:ext cx="4572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8672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7848720" y="3809880"/>
          <a:ext cx="45720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38098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7848720" y="5867280"/>
          <a:ext cx="457200" cy="41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48720" y="5867280"/>
                    <a:ext cx="457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2514600" y="5943600"/>
          <a:ext cx="457200" cy="27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943600"/>
                    <a:ext cx="45720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7238880" y="5943600"/>
          <a:ext cx="45720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5943600"/>
                    <a:ext cx="45720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9080" y="19080"/>
          <a:ext cx="523800" cy="4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" y="1908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" descr=""/>
          <p:cNvPicPr/>
          <p:nvPr/>
        </p:nvPicPr>
        <p:blipFill>
          <a:blip r:embed="rId17"/>
          <a:stretch/>
        </p:blipFill>
        <p:spPr>
          <a:xfrm>
            <a:off x="6877080" y="38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8"/>
          <a:stretch/>
        </p:blipFill>
        <p:spPr>
          <a:xfrm>
            <a:off x="2700360" y="3860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iscosupplementation of OA Join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    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idea patented by L. </a:t>
            </a: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Šoltés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2131920"/>
            <a:ext cx="860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SLOVAK PATENT 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k-SK" sz="3200" spc="-1" strike="noStrike">
                <a:solidFill>
                  <a:srgbClr val="ff00ff"/>
                </a:solidFill>
                <a:latin typeface="Times New Roman"/>
              </a:rPr>
              <a:t>2827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U PATENT PENDING No.</a:t>
            </a:r>
            <a:r>
              <a:rPr b="1" lang="sk-SK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ff00ff"/>
                </a:solidFill>
                <a:latin typeface="Times New Roman"/>
              </a:rPr>
              <a:t>EP12725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Times New Roman"/>
              </a:rPr>
              <a:t>Further filing Nrs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.g. Australia 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2001252180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; Canada 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2,402,421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; Japan 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565765/2001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; U.S.A. 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10/220,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055960" y="1197000"/>
          <a:ext cx="5713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1197000"/>
                    <a:ext cx="571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iscosupplementation of OA Join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    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idea patented by L. </a:t>
            </a:r>
            <a:r>
              <a:rPr b="1" lang="sk-SK" sz="2800" spc="-1" strike="noStrike">
                <a:solidFill>
                  <a:srgbClr val="ff00ff"/>
                </a:solidFill>
                <a:latin typeface="Times New Roman"/>
              </a:rPr>
              <a:t>Šoltés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2143080"/>
            <a:ext cx="52196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two associating polymeric components premixed along with an appropriate drug serve as the (tri-component) injection formula. Upon the injection of such a ‘cocktail’ into the space of application, the drug molecules initially should completely block the process of association. However, upon elimination (excretion) of the drug from the tissue environment, the desired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 self-association of the polymer components will occur.</a:t>
            </a:r>
            <a:r>
              <a:rPr b="0" lang="sk-SK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50920" y="2286000"/>
          <a:ext cx="365760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0"/>
                    <a:ext cx="365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50920" y="4419720"/>
          <a:ext cx="365760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419720"/>
                    <a:ext cx="3657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055960" y="1197000"/>
          <a:ext cx="5713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5960" y="1197000"/>
                    <a:ext cx="571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F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in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  </a:t>
            </a:r>
            <a:r>
              <a:rPr b="1" lang="cs-CZ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Healthy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j</a:t>
            </a:r>
            <a:r>
              <a:rPr b="1" lang="cs-CZ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oint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Joint with 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ure2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11948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figure3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114800" cy="26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teoa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h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34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In OA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 the</a:t>
            </a: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 HA</a:t>
            </a:r>
            <a:r>
              <a:rPr b="1" lang="cs-CZ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acromolecule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F become degrade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resulting in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a decrease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of 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molecular weigh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of SF </a:t>
            </a:r>
            <a:r>
              <a:rPr b="1" lang="cs-CZ" sz="4000" spc="-1" strike="noStrike">
                <a:solidFill>
                  <a:srgbClr val="66ffff"/>
                </a:solidFill>
                <a:latin typeface="Times New Roman"/>
              </a:rPr>
              <a:t>viscoelasticity</a:t>
            </a:r>
            <a:r>
              <a:rPr b="1" lang="en-US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O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arly 21 million people in the United States have osteoarth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0% of the population &gt;65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h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of OA of the kn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arly 100% of the population &gt;75 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nges in at least one joint</a:t>
            </a:r>
            <a:r>
              <a:rPr b="1" lang="cs-CZ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Anti-inflammatory med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Corticosteroid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;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njec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ons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into the joint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Viscosupplementation =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a series o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HA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njections designed to change the character of the joint fluid</a:t>
            </a:r>
            <a:r>
              <a:rPr b="1" lang="cs-CZ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ff00"/>
                </a:solidFill>
                <a:latin typeface="Times New Roman"/>
              </a:rPr>
              <a:t>Method for injecting a knee joi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819520"/>
            <a:ext cx="4724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ff"/>
                </a:solidFill>
                <a:latin typeface="Times New Roman"/>
              </a:rPr>
              <a:t>HA increases the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ff"/>
                </a:solidFill>
                <a:latin typeface="Times New Roman"/>
              </a:rPr>
              <a:t>viscosity of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ff"/>
                </a:solidFill>
                <a:latin typeface="Times New Roman"/>
              </a:rPr>
              <a:t>Exogenous HA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ff"/>
                </a:solidFill>
                <a:latin typeface="Times New Roman"/>
              </a:rPr>
              <a:t>stimulates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he production of </a:t>
            </a:r>
            <a:r>
              <a:rPr b="1" lang="cs-CZ" sz="3200" spc="-1" strike="noStrike">
                <a:solidFill>
                  <a:srgbClr val="66ffff"/>
                </a:solidFill>
                <a:latin typeface="Times New Roman"/>
              </a:rPr>
              <a:t>endogenous HA</a:t>
            </a:r>
            <a:r>
              <a:rPr b="1" lang="cs-CZ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2286000"/>
          <a:ext cx="365760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365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9480" y="4419720"/>
          <a:ext cx="365760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19720"/>
                    <a:ext cx="3657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co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87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ly and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6000" spc="-1" strike="noStrike">
                <a:solidFill>
                  <a:srgbClr val="66ffff"/>
                </a:solidFill>
                <a:latin typeface="CommonBullets"/>
                <a:ea typeface="CommonBullets"/>
              </a:rPr>
              <a:t>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Canad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6000" spc="-1" strike="noStrike">
                <a:solidFill>
                  <a:srgbClr val="66ffff"/>
                </a:solidFill>
                <a:latin typeface="CommonBullets"/>
                <a:ea typeface="CommonBullets"/>
              </a:rPr>
              <a:t>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5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Europ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6000" spc="-1" strike="noStrike">
                <a:solidFill>
                  <a:srgbClr val="66ffff"/>
                </a:solidFill>
                <a:latin typeface="CommonBullets"/>
                <a:ea typeface="CommonBullets"/>
              </a:rPr>
              <a:t>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he United Stat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6000" spc="-1" strike="noStrike">
                <a:solidFill>
                  <a:srgbClr val="66ffff"/>
                </a:solidFill>
                <a:latin typeface="CommonBullets"/>
                <a:ea typeface="CommonBullets"/>
              </a:rPr>
              <a:t></a:t>
            </a: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20" y="19080"/>
          <a:ext cx="524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908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620200" y="0"/>
          <a:ext cx="5238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20200" y="0"/>
                    <a:ext cx="523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4:06Z</dcterms:created>
  <dc:creator>XX</dc:creator>
  <dc:description/>
  <dc:language>en-US</dc:language>
  <cp:lastModifiedBy>Šoltés</cp:lastModifiedBy>
  <dcterms:modified xsi:type="dcterms:W3CDTF">2011-01-22T09:16:56Z</dcterms:modified>
  <cp:revision>26</cp:revision>
  <dc:subject/>
  <dc:title>PowerPoint Presentation</dc:title>
</cp:coreProperties>
</file>